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breeze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7A0-DF03-439B-BF18-16083F34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ECC-53DE-4003-9517-731C2A5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A0362-9C21-4F05-8C54-474D3A9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3B04-C846-4BB9-9B8C-6C5DD147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80EAA-7F18-49F0-A85E-D0F3ADCA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A6672-C55C-492F-917B-46232C5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04B67-E4AC-4F8A-92D8-B427876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DC4DD-47DA-4D40-9074-F3CB783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38B06-3553-4EC7-AD68-E2AAE85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03D26-343C-4BD0-BC72-8ECF1970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121C-0EA0-4AE5-ADC2-9B6DC71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6D92B-352B-48B4-925B-538D9265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ADE-7D9B-44C7-AC72-D661A145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B38A1-057F-42D1-9F38-BB91215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2E90-5A49-482B-A677-9633AE3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FD819-A08F-46CB-829C-15D80ED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245B-71E1-48D3-89D4-8C510F9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DF63-DCA3-47FE-B6C8-BB2B58A2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82BA4-CDCC-4749-899E-FB924A6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B9B06-56F9-4CFC-8FBE-5434934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7DBB0-9F4D-44AC-BCEC-9CC538D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1DC83-9CEE-4418-87D2-E94968B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9A5B4-821D-4410-8DB2-2320C9ED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CCD-C064-4FB4-86EC-20F3C26C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52382-3FFD-4075-A492-8AA06B36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14F7B-483D-47A2-A6EF-9E0BC6B2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1765-3E0F-4EA2-AEA6-54B5862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6AF1F-8920-4B4D-9B5F-B1D9362E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8416F-959C-4342-BA0A-50AFA43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FEE5D-F37B-42D5-9533-E281D7C4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9187A-0392-46AE-93F6-5F13B9E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67F9-CB7D-4136-8C51-6273322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30621-9C77-46EC-A84E-4981EC6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93D82-2F78-4274-8ABC-432B19D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821D-0BD1-490F-BFD6-95B4554F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99E8-DD96-4324-BED0-A349727E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D7396-3805-43F7-87D4-AB417995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F0D41-DE72-4187-88DB-2B4D5CEB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7BAE2-D836-4D12-A582-395C3D7E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1F656-F18B-42B4-A2CD-80CAAC51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6B19A-0233-4903-85B0-6C2035A4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BC521-F4F4-49F9-9138-037F05D9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87B72-186C-480F-8356-77968BFA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6845F-713F-4E9D-930A-AEC51C36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A5977-47EB-4647-9516-05E796A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BD87-88C4-4C50-A831-CA45073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275D6-8204-4ACF-A8E9-43EA92B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A868-2F61-42E3-BE63-80C200C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663D9-7294-4C77-84E9-F79FD13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11A4-6236-4769-92D1-873C4ABA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0750-7D1D-45FC-A1BD-F35C6A5E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A11-9B91-4DD9-971D-D5FF670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834-9D0E-406E-94A7-81662C7A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58CC-8E5D-47F9-AB71-71708D86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1B8-A50C-4B3D-B1EF-8A6CE2C5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F8D-862C-46CA-BEFF-EA1CEB7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9FB-6763-4E52-B1D7-B225689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533-21F5-49D8-A44B-8E28808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72FF-0FB2-4AE1-90E8-D8D79003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413B-3EFC-4FCA-B825-0A41335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E8F4-718B-41CF-8B5C-C89A6EE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97F-FF84-420A-BD5F-403D6DE4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DCFC-C57E-4B60-B1BF-D148913B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703A-7EA5-408A-A626-678EE5D9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B1B9-DC51-481F-802B-EBC57A2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6AD8-F590-48BA-BB88-E8FED74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3C27-44AE-42A9-89D7-CB91D4F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4E4-74A4-4314-BE2A-2776FCDF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6BFE-EEC7-4C63-8219-14C260F5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EE4C-1306-4D4C-B0A0-4CF663F2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52C7-3F64-41B3-9EAD-E37C012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B835-A27A-4C7A-B0ED-C0B5A405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81DD-BCA0-4231-B01E-C7ECBD4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9035-CAD2-4F91-90C5-AB26873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6761-FD6E-4448-92A4-36FFBB15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3568-33D5-4EB8-B759-BDFE7FE9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ACEB-9BB8-4634-B11B-2F25D06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EC2A-CD81-4B87-BCEA-7125CD2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038-4C8D-4EE9-8A3F-B07D5A9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A1F8-77A4-45CC-BCC6-BE99DBC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B019-DBA5-4B6C-96A6-5E1B286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FD6CC-14E8-401C-9142-08E164F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5898-6E93-454E-9A87-0797C29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BF57-43E2-4FAA-9754-2A8CACA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D46F-367A-4BA5-96AF-40FFCCA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80A5-A99C-45B0-B3C0-CF68C78C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B898-57C1-461C-B204-4CF641B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A43A-1F43-4510-88AB-4933C67F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64DA-9B58-4227-B053-D39D2866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21B-42CC-4E7D-8384-D22748F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F8D2-C3BD-4B96-8E2B-79B2C9EC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5BD0-4C06-4401-9E62-0A9158CA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B157-18A4-46FD-B333-2DAB1CD3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B88A-6E62-41A5-B55E-ECAB51A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2285-84B8-42D1-AD0D-E8D64633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8726-1E83-4BB7-A9BE-49BDE0B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CCB68-CA9C-4A0E-980B-90AEA45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526D-0A4E-474F-AB1C-E26F428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CAB5-7D4B-40A4-9470-DC07E07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B2DF-AC04-4F3A-8AAD-5C06DF4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B0C-AD90-4EDA-8086-9B92EB2A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833E-C744-487D-B161-F312D3DF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4BF45-6AD1-454E-A206-D87B1A7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F6AD-D4E3-4505-A837-E39B996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D7A2-BE50-49F0-9A76-11F46EA9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BF12-8ECA-4ACB-8FD1-753F662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395B-1ABD-48DE-889D-DBC28C9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C9F7-3B3A-41F4-A889-DE8EA9E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DD04-6887-4297-B112-57E7171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B82A-DDB2-47A5-A6CF-689FF19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3E38-9EE9-456C-8FB0-20D6EB0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4D8-8C99-4E6B-8364-CE87414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DFD5-6B08-4495-926F-5955D9D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1118-9CBE-4FAD-BD0C-FAC6F75F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27D54-4502-4573-B6F7-69FC2B51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6484-D188-4CE3-AA1F-A24B51B2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22325-A8E2-4E95-8BB1-4B41F9DF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0C0CA-76B5-4543-B8E9-8C8E2C3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BAFC-EA24-4A8C-9EFD-B460CD0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1328-130F-44B0-A042-059939D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36B7-14D7-4F61-AAF0-808A7485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F9B9-5B20-492E-98FF-B7F2AB3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133-31EF-42DE-B092-9214C17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4AB2-51FB-4496-B510-061FBD2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8CEAE-9061-4075-8565-4022CD1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B1058-DB29-42EF-A1DA-F2FD431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E9B4E-7E08-4ABB-A731-CD8E388E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B3A6-78EA-4790-92EB-83809A1E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31BD-5B5C-4071-8CBB-A54ACD9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1E95-C943-4CB5-9189-F70C8686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644F7-7FD2-428C-945D-D1C83BE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E5076-213C-4FED-AC03-013B5F6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04A8-1BEB-451A-A47D-8C1BA77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965-A74F-4AE7-B9A2-C94D2D9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74D40-10EB-46ED-8B0A-194C0F50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30EF-8802-41B2-9D09-E0318A0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F21F9-BDA4-4805-8373-8238E2D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92EF-7AE9-4BDA-B0FA-35D0A4E5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EA8F-393D-4DB2-9443-B611737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5F66-F59F-41B3-9DAA-78339F24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FA5B-1E08-4519-B374-2038E9EC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45A9-3C2E-4D83-ADA5-022EB86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A9419-FD2D-4B0D-A36C-A357939E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C970-98BC-4EA0-B1C1-0F2CEEBD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18A-9B90-4F80-BFB3-87E062869A74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B2BA-80DD-41FC-B580-BD62CBEFE6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0B6A-9CF0-488F-A98E-A20C786294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33D-AC72-45F7-85A2-0B214193E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A5A-03D9-4B8A-9511-8047F51F97E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2C5D-6504-4346-AEAA-C701AAE25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6F3F-A293-4F24-B5C6-00E9FBF3578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3B8-6B1F-43F0-B9A3-F058E798E2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13B-D6FA-4B13-918E-185D6C5AAC76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5BA7-E4BA-45EB-837E-7A405ADF53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42BD-5B04-4F6D-81B8-DB03541870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4AF-0A84-4071-8C09-B0B9BE865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E51-2F0D-40A8-BFA3-2A224FC9C3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4F9D-0F73-4DB8-A73C-37A9060A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F8C-4AB3-4AB7-8A8B-48819C7DA23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C73-5AEA-4CB5-862A-A559BE3509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4EFA-9F27-4790-B6A9-FED16B96E32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1CD-7044-480C-B03C-5D53D47DEF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595D-C839-42FC-B3A4-CC986430C00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977-4AC8-4CA0-8EF7-1E9E67130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0E5-74EF-4BC1-80E0-9C2F090FE6C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8D17-823F-4A89-8423-8EDEBAAE4E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3667-2C24-4578-9302-68B4212AE1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2B4F-6030-4E07-98E0-91D19C9E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ndul.info/poze/stiinta-si-tehnologia/cimpanzeii-mananca-tarana-pentru-sanatate.html?4588;2333416&amp;type=main_picture&amp;ptr=0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o.wikibooks.org/wiki/Imagine:Red_Squirrel_-_Lazienki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ccecff"/>
                </a:solidFill>
                <a:latin typeface="Bookman Old Style"/>
              </a:rPr>
              <a:t>CURIOZITATI DIN LUMEA VI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838C-9ACC-4E9D-A247-F16867E91F6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1D46EE0A-C31E-4771-8139-D319263D7B8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Care este cea mai mare insecta de pe pamant? Unde traiest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1640" y="2097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 mai mare insecta este carabusul elefant; traieste in Venezuela si cantareste circa 250 de gra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519280" y="4221000"/>
            <a:ext cx="410544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400-98A9-41FA-BD09-7904536560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BC865-A8E6-4C49-B4BA-A0BB23E3ED7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Cate oua fac intr-un an diferite specii de pasari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nguinul depune in cuibul sau un singur ou, strutul – 30, pasarile cantatoare in jur de 4-5 oua, gasca intre 15-25 de oua, curca 20-25 oua, rata – 40 oua, gaina – 130 oua, in medie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442764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83FA-41E9-4474-9901-3B45C6137C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085EEE9-056F-4496-93AA-F3CC18BF5B04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87300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eec94"/>
                </a:solidFill>
                <a:latin typeface="Sylfaen"/>
              </a:rPr>
              <a:t>Cat timp dorm iepurii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epurii salbatici dorm foarte mult, intre 16 si 21 de ore pe z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Iepure de calculator"/>
          <p:cNvPicPr/>
          <p:nvPr/>
        </p:nvPicPr>
        <p:blipFill>
          <a:blip r:embed="rId1"/>
          <a:stretch/>
        </p:blipFill>
        <p:spPr>
          <a:xfrm>
            <a:off x="2664000" y="3681360"/>
            <a:ext cx="4537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57FE-FAB9-454B-8782-71F3876DCA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B9336A1-A1B8-44C2-8097-DB20B126D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b76"/>
                </a:solidFill>
                <a:latin typeface="Arial"/>
              </a:rPr>
              <a:t>Ce metoda originala folosesc cimpanzeii pentru a se hrani cu termite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GB" sz="2800" spc="-1" strike="noStrike">
                <a:solidFill>
                  <a:srgbClr val="ffffff"/>
                </a:solidFill>
                <a:latin typeface="Abc"/>
              </a:rPr>
              <a:t>Fiecare maimuta are o ramurica subtire pe care o introduce in galerii. Cand le retrag de acolo, betisoarele sunt acoperite de insecte, pe care cimpanzeii le manan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753000"/>
            <a:ext cx="4248360" cy="288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4B77-8A9D-490D-87F7-0D736D66D2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4C5799B-7C30-4741-9C4F-AF0505C3011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ccff"/>
                </a:solidFill>
                <a:latin typeface="Tahoma"/>
              </a:rPr>
              <a:t>Care este cel mai mare peste din Marea Neagr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247640" y="2241360"/>
            <a:ext cx="447516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Morunul, ce ajunge pana 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4 metri lungime, 1500 kg 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poate trai peste 100 de ani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92400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7395-7F42-4D90-A612-9298CE356B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03207FA-E154-4567-87A6-9704D7B24BB8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Bookman Old Style"/>
              </a:rPr>
              <a:t>La ce isi foloseste veverita coada lunga si stufoasa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ada stufoasa a veveritei o ajuta pe aceasta sa-si mentina echilibrul in timpul salturilor de pe o creanga pe alta. Ea serveste ca “patura” in iernile gero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113360"/>
            <a:ext cx="399744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07C59-8828-46AD-98E3-9E42D19A08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5001985-4D90-4DD4-A6F0-F26CE39C832D}" type="datetime1">
              <a:rPr lang="en-US"/>
              <a:t>07/30/26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9966"/>
                </a:solidFill>
                <a:latin typeface="Felix Titling"/>
              </a:rPr>
              <a:t>Cum dorm elefantii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fantii africani dorm in picioare ( ca si caii ), iar cei asiatici dorm intinsi pe ierburi aflate pe pama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6" name="" descr="ID: #224-elefanti galerie de wallpapere"/>
          <p:cNvPicPr/>
          <p:nvPr/>
        </p:nvPicPr>
        <p:blipFill>
          <a:blip r:embed="rId1"/>
          <a:stretch/>
        </p:blipFill>
        <p:spPr>
          <a:xfrm>
            <a:off x="2448000" y="1160640"/>
            <a:ext cx="4282920" cy="27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21CF-3EE0-4470-A245-9BDD3B0344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887660F-BAED-47E8-B121-0D8AF3C56B5B}" type="datetime1">
              <a:rPr lang="en-US"/>
              <a:t>07/30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at cantareste un fir de paianjen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18920" y="2528640"/>
            <a:ext cx="8173800" cy="39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 fir de paianjen cu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tem inconjura glob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mantesc cantare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mai   300  de g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50920" y="1881360"/>
            <a:ext cx="3668760" cy="47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A5D8-B863-402D-9C09-A1D3515121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9C8D377-6F21-4DD7-9804-92839C92BD12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10-01-07T16:01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